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A13-043D-41CC-9435-EECD79F4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40B-B22A-492B-981E-8762C2E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331-A2BD-43F3-B9EA-F7FB27F2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923-0760-4ED0-9D91-AF712D51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0484-19D4-4A94-9EE8-6A2400F8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64B8-FC74-46D7-BBC1-927A8C80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6287-7EE1-421E-8EBD-F9566F25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6B2F-D350-41BC-93B5-0F6E01F0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3815-B7DB-48D6-8808-A9BB08F0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1A8D-C336-45A3-80DA-7EFA28A6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EE3E-94EB-4A57-AFDA-BB3AB709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5FF-3AA2-4602-A173-1F7E7F16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C5BC-1A44-4333-A51B-0DB01AB4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CED0-106D-4565-8370-4A7E7E3D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3E9C-1B78-42BF-8D40-9173DF05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FC7D-F8FC-4098-B3F3-139B9E2C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1081-CD1B-413D-9F16-3CABF851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BFED-F591-43DC-85FE-26427D37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7F11-6C5A-4BD1-A96B-61AD465A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3DD0-23E4-4AA4-963A-8E024492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ECFF-0DF6-49DE-B2D5-335DF462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A5B7-8BDD-466D-AE69-350424F8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4E2-9980-46FB-9BC2-A5B9ED2F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43C2-D4F4-4F87-9CC6-4D69863B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476D-4AC6-495A-AACF-9107BB23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F8C2-270C-4D1B-A3E9-76CF2FF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FF57-728F-421E-87ED-06B99F9B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F5886-2516-488E-9E0E-76A12636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84FC-AADF-423B-A663-3311960C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E970-BC3B-4D78-B9AD-221778CC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7F3-E92F-46EA-A4E5-60CA8C22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18D-54F1-4E2A-8C54-D2CB65B6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141-FC5C-4D4F-B48A-3E471EAB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0E2-5FF8-43A2-B755-8FB408BD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9EC-46E7-4C9B-B16B-4BCAB07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7E2-035E-4AF3-A99F-48F06B6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276B-ADA2-4A3B-9008-C7FAB3BEE8F5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6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roodschild_los.jpg"/>
          <p:cNvPicPr/>
          <p:nvPr/>
        </p:nvPicPr>
        <p:blipFill>
          <a:blip r:embed="rId3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10" descr="hartenbeeldje_los (Large).png"/>
          <p:cNvPicPr/>
          <p:nvPr/>
        </p:nvPicPr>
        <p:blipFill>
          <a:blip r:embed="rId4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4" name="Afbeelding 9" descr="HGJB-logo_support_wit.png"/>
          <p:cNvPicPr/>
          <p:nvPr/>
        </p:nvPicPr>
        <p:blipFill>
          <a:blip r:embed="rId5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0E9B-A806-4AE8-BEA8-833EA737B070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8"/>
          <p:cNvSpPr/>
          <p:nvPr/>
        </p:nvSpPr>
        <p:spPr>
          <a:xfrm>
            <a:off x="428760" y="58579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ED2D-CCF7-486F-908E-20503BE88FD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3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8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ls verschillen confronteren...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14880" y="2143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moeid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666880" y="1752480"/>
            <a:ext cx="6172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00040" y="1533600"/>
            <a:ext cx="63356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ctoren die meesp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ude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rak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m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Werkwoorden  (valkuilen)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neralis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ij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sycholog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emp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Werkwoorden  (valkuilen)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343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5 - werk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oe verder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k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ef wat het met de ander en jou d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spreken wat verkeerd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geving sche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er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crete stappen voo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oe verder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56800" y="1600200"/>
            <a:ext cx="796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conflict niet te zwaar, probeer met humor te rela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d regelmatig voor je huwelijk, dat God het bederfwerend ma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je ná een conflict het gesprek niet durft te openen, probeer het dan via een br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oe verder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spra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geving voelt de pijn, maar koestert de pijn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geving betekent ont-schuldi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ver-ontschul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oe verder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6: Karak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 napr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90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91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92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Omgaan met 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269640"/>
            <a:ext cx="776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1421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efde en trouw is een bijzonder 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 tussen man en vrouw aanvull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itiek geven en ontvangen is een ku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unt sámen winnen in een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ijden en vergeven werkt verzoe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85880" y="14158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euken 3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ogen </a:t>
            </a:r>
            <a:r>
              <a:rPr b="1" lang="nl-NL" sz="3200" spc="-1" strike="noStrike">
                <a:solidFill>
                  <a:srgbClr val="c00000"/>
                </a:solidFill>
                <a:latin typeface="Arial"/>
              </a:rPr>
              <a:t>liefde en trouw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je nooit verlaten, wind ze om je hals, schrij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ze in je hart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Elkaar aanvul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4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9246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Elkaar aanvul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1520" y="1484280"/>
            <a:ext cx="769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1 - Galaten 5:13 -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AntitledDemi"/>
              </a:rPr>
              <a:t>Verschillen herkennen en benoemen</a:t>
            </a:r>
            <a:endParaRPr b="0" lang="en-US" sz="45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18920" y="3429000"/>
            <a:ext cx="583236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 elkaar aanvullen om het huwelijksleven te verr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547640" y="1484280"/>
            <a:ext cx="6120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erstand 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Gevo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lossen↔ Betro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Informatie ↔ conta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AntitledDemi"/>
              </a:rPr>
              <a:t>Verschillen herkennen en benoemen</a:t>
            </a:r>
            <a:endParaRPr b="0" lang="en-US" sz="45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55640" y="1484280"/>
            <a:ext cx="69120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dracht 2 – waar zitten julli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erschille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dracht 3 – Noem dri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luspun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ls verschillen confronter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3560" y="1410840"/>
            <a:ext cx="806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een goed mo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aar kritiek niet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is de toon die de muziek maa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es actueel en concr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 de kritiek een wens beva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eek vanuit de ik-v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8360" y="1125360"/>
            <a:ext cx="633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a: Kritiek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AntitledDemi"/>
              </a:rPr>
              <a:t>Als verschillen confronteren</a:t>
            </a:r>
            <a:endParaRPr b="0" lang="en-US" sz="45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371240"/>
            <a:ext cx="8496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l je open voor kriti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 verduidelij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t het niet op als een persoonlijke afwijz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g waar je het wel of niet mee eens b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g wat je ermee kunt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68360" y="1125360"/>
            <a:ext cx="67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b: Kritiek ontv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dcterms:modified xsi:type="dcterms:W3CDTF">2015-01-14T08:59:34Z</dcterms:modified>
  <cp:revision>44</cp:revision>
  <dc:subject/>
  <dc:title>Hart voor je huwelijk</dc:title>
</cp:coreProperties>
</file>